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4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5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55B9-0C95-4991-9137-EBBAF2FF5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0CE0-B860-42A6-89E3-400BA9D50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402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40402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80880" y="617184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aur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8"/>
          <p:cNvGrpSpPr/>
          <p:nvPr/>
        </p:nvGrpSpPr>
        <p:grpSpPr>
          <a:xfrm>
            <a:off x="50400" y="100800"/>
            <a:ext cx="8884080" cy="1753200"/>
            <a:chOff x="50400" y="100800"/>
            <a:chExt cx="8884080" cy="1753200"/>
          </a:xfrm>
        </p:grpSpPr>
        <p:sp>
          <p:nvSpPr>
            <p:cNvPr id="3" name="Rectangle 9"/>
            <p:cNvSpPr/>
            <p:nvPr/>
          </p:nvSpPr>
          <p:spPr>
            <a:xfrm rot="21432000">
              <a:off x="210600" y="429480"/>
              <a:ext cx="8704440" cy="99072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" name="Picture 10" descr=""/>
            <p:cNvPicPr/>
            <p:nvPr/>
          </p:nvPicPr>
          <p:blipFill>
            <a:blip r:embed="rId2"/>
            <a:srcRect l="-5" t="-10091" r="28698" b="-22915"/>
            <a:stretch/>
          </p:blipFill>
          <p:spPr>
            <a:xfrm rot="21372000">
              <a:off x="382320" y="380520"/>
              <a:ext cx="8489880" cy="119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" name="Group 11"/>
            <p:cNvGrpSpPr/>
            <p:nvPr/>
          </p:nvGrpSpPr>
          <p:grpSpPr>
            <a:xfrm>
              <a:off x="50400" y="694800"/>
              <a:ext cx="730440" cy="1057680"/>
              <a:chOff x="50400" y="694800"/>
              <a:chExt cx="730440" cy="1057680"/>
            </a:xfrm>
          </p:grpSpPr>
          <p:sp>
            <p:nvSpPr>
              <p:cNvPr id="6" name="Rectangle 12" hidden="1"/>
              <p:cNvSpPr/>
              <p:nvPr/>
            </p:nvSpPr>
            <p:spPr>
              <a:xfrm>
                <a:off x="76320" y="694800"/>
                <a:ext cx="678960" cy="105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13"/>
              <p:cNvSpPr/>
              <p:nvPr/>
            </p:nvSpPr>
            <p:spPr>
              <a:xfrm rot="21060000">
                <a:off x="118800" y="761400"/>
                <a:ext cx="593280" cy="92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4"/>
              <p:cNvSpPr/>
              <p:nvPr/>
            </p:nvSpPr>
            <p:spPr>
              <a:xfrm>
                <a:off x="180720" y="859680"/>
                <a:ext cx="469800" cy="72900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241200" y="951840"/>
                <a:ext cx="348840" cy="543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280800" y="1015560"/>
                <a:ext cx="269640" cy="41760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334800" y="1098000"/>
                <a:ext cx="161640" cy="252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374400" y="1158480"/>
                <a:ext cx="82440" cy="12996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pSp>
        <p:nvGrpSpPr>
          <p:cNvPr id="14" name="Group 19"/>
          <p:cNvGrpSpPr/>
          <p:nvPr/>
        </p:nvGrpSpPr>
        <p:grpSpPr>
          <a:xfrm>
            <a:off x="379440" y="6023520"/>
            <a:ext cx="8305920" cy="221040"/>
            <a:chOff x="379440" y="6023520"/>
            <a:chExt cx="8305920" cy="221040"/>
          </a:xfrm>
        </p:grpSpPr>
        <p:sp>
          <p:nvSpPr>
            <p:cNvPr id="15" name="Rectangle 20" hidden="1"/>
            <p:cNvSpPr/>
            <p:nvPr/>
          </p:nvSpPr>
          <p:spPr>
            <a:xfrm rot="21540000">
              <a:off x="379800" y="6096960"/>
              <a:ext cx="8305560" cy="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21"/>
            <p:cNvSpPr/>
            <p:nvPr/>
          </p:nvSpPr>
          <p:spPr>
            <a:xfrm rot="21540000">
              <a:off x="379800" y="61682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2"/>
            <p:cNvSpPr/>
            <p:nvPr/>
          </p:nvSpPr>
          <p:spPr>
            <a:xfrm rot="21540000">
              <a:off x="584280" y="616356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3"/>
            <p:cNvSpPr/>
            <p:nvPr/>
          </p:nvSpPr>
          <p:spPr>
            <a:xfrm rot="21540000">
              <a:off x="790920" y="61603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4"/>
            <p:cNvSpPr/>
            <p:nvPr/>
          </p:nvSpPr>
          <p:spPr>
            <a:xfrm rot="21540000">
              <a:off x="995760" y="615708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5"/>
            <p:cNvSpPr/>
            <p:nvPr/>
          </p:nvSpPr>
          <p:spPr>
            <a:xfrm rot="21540000">
              <a:off x="1202040" y="61538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6"/>
            <p:cNvSpPr/>
            <p:nvPr/>
          </p:nvSpPr>
          <p:spPr>
            <a:xfrm rot="21540000">
              <a:off x="1406520" y="61495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7"/>
            <p:cNvSpPr/>
            <p:nvPr/>
          </p:nvSpPr>
          <p:spPr>
            <a:xfrm rot="21540000">
              <a:off x="1611360" y="614628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8"/>
            <p:cNvSpPr/>
            <p:nvPr/>
          </p:nvSpPr>
          <p:spPr>
            <a:xfrm rot="21540000">
              <a:off x="1817640" y="61430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9"/>
            <p:cNvSpPr/>
            <p:nvPr/>
          </p:nvSpPr>
          <p:spPr>
            <a:xfrm rot="21540000">
              <a:off x="2022480" y="61398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30"/>
            <p:cNvSpPr/>
            <p:nvPr/>
          </p:nvSpPr>
          <p:spPr>
            <a:xfrm rot="21540000">
              <a:off x="2229120" y="61351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31"/>
            <p:cNvSpPr/>
            <p:nvPr/>
          </p:nvSpPr>
          <p:spPr>
            <a:xfrm rot="21540000">
              <a:off x="2433600" y="61318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2"/>
            <p:cNvSpPr/>
            <p:nvPr/>
          </p:nvSpPr>
          <p:spPr>
            <a:xfrm rot="21540000">
              <a:off x="2638440" y="612864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3"/>
            <p:cNvSpPr/>
            <p:nvPr/>
          </p:nvSpPr>
          <p:spPr>
            <a:xfrm rot="21540000">
              <a:off x="2845080" y="61254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4"/>
            <p:cNvSpPr/>
            <p:nvPr/>
          </p:nvSpPr>
          <p:spPr>
            <a:xfrm rot="21540000">
              <a:off x="3049920" y="61207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5"/>
            <p:cNvSpPr/>
            <p:nvPr/>
          </p:nvSpPr>
          <p:spPr>
            <a:xfrm rot="21540000">
              <a:off x="3254760" y="611748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6"/>
            <p:cNvSpPr/>
            <p:nvPr/>
          </p:nvSpPr>
          <p:spPr>
            <a:xfrm rot="21540000">
              <a:off x="3461040" y="61146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7"/>
            <p:cNvSpPr/>
            <p:nvPr/>
          </p:nvSpPr>
          <p:spPr>
            <a:xfrm rot="21540000">
              <a:off x="3665880" y="611136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8"/>
            <p:cNvSpPr/>
            <p:nvPr/>
          </p:nvSpPr>
          <p:spPr>
            <a:xfrm rot="21540000">
              <a:off x="3871800" y="61063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9"/>
            <p:cNvSpPr/>
            <p:nvPr/>
          </p:nvSpPr>
          <p:spPr>
            <a:xfrm rot="21540000">
              <a:off x="4076640" y="61034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40"/>
            <p:cNvSpPr/>
            <p:nvPr/>
          </p:nvSpPr>
          <p:spPr>
            <a:xfrm rot="21540000">
              <a:off x="4281480" y="610020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41"/>
            <p:cNvSpPr/>
            <p:nvPr/>
          </p:nvSpPr>
          <p:spPr>
            <a:xfrm rot="21540000">
              <a:off x="4487760" y="609696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42"/>
            <p:cNvSpPr/>
            <p:nvPr/>
          </p:nvSpPr>
          <p:spPr>
            <a:xfrm rot="21540000">
              <a:off x="4691160" y="609192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3"/>
            <p:cNvSpPr/>
            <p:nvPr/>
          </p:nvSpPr>
          <p:spPr>
            <a:xfrm rot="21540000">
              <a:off x="4897440" y="60890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4"/>
            <p:cNvSpPr/>
            <p:nvPr/>
          </p:nvSpPr>
          <p:spPr>
            <a:xfrm rot="21540000">
              <a:off x="5102280" y="60858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5"/>
            <p:cNvSpPr/>
            <p:nvPr/>
          </p:nvSpPr>
          <p:spPr>
            <a:xfrm rot="21540000">
              <a:off x="5307120" y="608112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6"/>
            <p:cNvSpPr/>
            <p:nvPr/>
          </p:nvSpPr>
          <p:spPr>
            <a:xfrm rot="21540000">
              <a:off x="5513760" y="60778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7"/>
            <p:cNvSpPr/>
            <p:nvPr/>
          </p:nvSpPr>
          <p:spPr>
            <a:xfrm rot="21540000">
              <a:off x="5718240" y="607500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8"/>
            <p:cNvSpPr/>
            <p:nvPr/>
          </p:nvSpPr>
          <p:spPr>
            <a:xfrm rot="21540000">
              <a:off x="5924880" y="60714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9"/>
            <p:cNvSpPr/>
            <p:nvPr/>
          </p:nvSpPr>
          <p:spPr>
            <a:xfrm rot="21540000">
              <a:off x="6129360" y="60670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50"/>
            <p:cNvSpPr/>
            <p:nvPr/>
          </p:nvSpPr>
          <p:spPr>
            <a:xfrm rot="21540000">
              <a:off x="6334200" y="606384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51"/>
            <p:cNvSpPr/>
            <p:nvPr/>
          </p:nvSpPr>
          <p:spPr>
            <a:xfrm rot="21540000">
              <a:off x="6540480" y="60606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52"/>
            <p:cNvSpPr/>
            <p:nvPr/>
          </p:nvSpPr>
          <p:spPr>
            <a:xfrm rot="21540000">
              <a:off x="6745320" y="605736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3"/>
            <p:cNvSpPr/>
            <p:nvPr/>
          </p:nvSpPr>
          <p:spPr>
            <a:xfrm rot="21540000">
              <a:off x="6950160" y="605268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4"/>
            <p:cNvSpPr/>
            <p:nvPr/>
          </p:nvSpPr>
          <p:spPr>
            <a:xfrm rot="21540000">
              <a:off x="7156440" y="60494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5"/>
            <p:cNvSpPr/>
            <p:nvPr/>
          </p:nvSpPr>
          <p:spPr>
            <a:xfrm rot="21540000">
              <a:off x="7361280" y="604620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6"/>
            <p:cNvSpPr/>
            <p:nvPr/>
          </p:nvSpPr>
          <p:spPr>
            <a:xfrm rot="21540000">
              <a:off x="7567560" y="604296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7"/>
            <p:cNvSpPr/>
            <p:nvPr/>
          </p:nvSpPr>
          <p:spPr>
            <a:xfrm rot="21540000">
              <a:off x="7772400" y="60382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8"/>
            <p:cNvSpPr/>
            <p:nvPr/>
          </p:nvSpPr>
          <p:spPr>
            <a:xfrm rot="21540000">
              <a:off x="7977240" y="603504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9"/>
            <p:cNvSpPr/>
            <p:nvPr/>
          </p:nvSpPr>
          <p:spPr>
            <a:xfrm rot="21540000">
              <a:off x="8183880" y="60318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60"/>
            <p:cNvSpPr/>
            <p:nvPr/>
          </p:nvSpPr>
          <p:spPr>
            <a:xfrm rot="21540000">
              <a:off x="8388720" y="602856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61"/>
            <p:cNvSpPr/>
            <p:nvPr/>
          </p:nvSpPr>
          <p:spPr>
            <a:xfrm rot="21540000">
              <a:off x="8594640" y="60238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62"/>
          <p:cNvSpPr/>
          <p:nvPr/>
        </p:nvSpPr>
        <p:spPr>
          <a:xfrm>
            <a:off x="8086680" y="19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1.12.2.G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6"/>
          <p:cNvGrpSpPr/>
          <p:nvPr/>
        </p:nvGrpSpPr>
        <p:grpSpPr>
          <a:xfrm>
            <a:off x="457200" y="6248520"/>
            <a:ext cx="8267760" cy="191880"/>
            <a:chOff x="457200" y="6248520"/>
            <a:chExt cx="8267760" cy="191880"/>
          </a:xfrm>
        </p:grpSpPr>
        <p:pic>
          <p:nvPicPr>
            <p:cNvPr id="59" name="Picture 16" descr="UA-horiz blk"/>
            <p:cNvPicPr/>
            <p:nvPr/>
          </p:nvPicPr>
          <p:blipFill>
            <a:blip r:embed="rId3"/>
            <a:stretch/>
          </p:blipFill>
          <p:spPr>
            <a:xfrm>
              <a:off x="457200" y="6248520"/>
              <a:ext cx="814320" cy="1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3" descr="TCA-New-Logo-3-color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7772760" y="6248520"/>
              <a:ext cx="952200" cy="183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8"/>
          <p:cNvGrpSpPr/>
          <p:nvPr/>
        </p:nvGrpSpPr>
        <p:grpSpPr>
          <a:xfrm>
            <a:off x="50400" y="100800"/>
            <a:ext cx="8884080" cy="1753200"/>
            <a:chOff x="50400" y="100800"/>
            <a:chExt cx="8884080" cy="1753200"/>
          </a:xfrm>
        </p:grpSpPr>
        <p:sp>
          <p:nvSpPr>
            <p:cNvPr id="98" name="Rectangle 9"/>
            <p:cNvSpPr/>
            <p:nvPr/>
          </p:nvSpPr>
          <p:spPr>
            <a:xfrm rot="21432000">
              <a:off x="210600" y="429480"/>
              <a:ext cx="8704440" cy="99072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10" descr=""/>
            <p:cNvPicPr/>
            <p:nvPr/>
          </p:nvPicPr>
          <p:blipFill>
            <a:blip r:embed="rId2"/>
            <a:srcRect l="-5" t="-10091" r="28698" b="-22915"/>
            <a:stretch/>
          </p:blipFill>
          <p:spPr>
            <a:xfrm rot="21372000">
              <a:off x="382320" y="380520"/>
              <a:ext cx="8489880" cy="119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Group 11"/>
            <p:cNvGrpSpPr/>
            <p:nvPr/>
          </p:nvGrpSpPr>
          <p:grpSpPr>
            <a:xfrm>
              <a:off x="50400" y="694800"/>
              <a:ext cx="730440" cy="1057680"/>
              <a:chOff x="50400" y="694800"/>
              <a:chExt cx="730440" cy="1057680"/>
            </a:xfrm>
          </p:grpSpPr>
          <p:sp>
            <p:nvSpPr>
              <p:cNvPr id="101" name="Rectangle 12" hidden="1"/>
              <p:cNvSpPr/>
              <p:nvPr/>
            </p:nvSpPr>
            <p:spPr>
              <a:xfrm>
                <a:off x="76320" y="694800"/>
                <a:ext cx="678960" cy="105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3"/>
              <p:cNvSpPr/>
              <p:nvPr/>
            </p:nvSpPr>
            <p:spPr>
              <a:xfrm rot="21060000">
                <a:off x="118800" y="761400"/>
                <a:ext cx="593280" cy="92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14"/>
              <p:cNvSpPr/>
              <p:nvPr/>
            </p:nvSpPr>
            <p:spPr>
              <a:xfrm>
                <a:off x="180720" y="859680"/>
                <a:ext cx="469800" cy="72900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15"/>
              <p:cNvSpPr/>
              <p:nvPr/>
            </p:nvSpPr>
            <p:spPr>
              <a:xfrm>
                <a:off x="241200" y="951840"/>
                <a:ext cx="348840" cy="543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6"/>
              <p:cNvSpPr/>
              <p:nvPr/>
            </p:nvSpPr>
            <p:spPr>
              <a:xfrm>
                <a:off x="280800" y="1015560"/>
                <a:ext cx="269640" cy="41760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17"/>
              <p:cNvSpPr/>
              <p:nvPr/>
            </p:nvSpPr>
            <p:spPr>
              <a:xfrm>
                <a:off x="334800" y="1098000"/>
                <a:ext cx="161640" cy="252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18"/>
              <p:cNvSpPr/>
              <p:nvPr/>
            </p:nvSpPr>
            <p:spPr>
              <a:xfrm>
                <a:off x="374400" y="1158480"/>
                <a:ext cx="82440" cy="12996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19"/>
          <p:cNvGrpSpPr/>
          <p:nvPr/>
        </p:nvGrpSpPr>
        <p:grpSpPr>
          <a:xfrm>
            <a:off x="379440" y="6023520"/>
            <a:ext cx="8305920" cy="221040"/>
            <a:chOff x="379440" y="6023520"/>
            <a:chExt cx="8305920" cy="221040"/>
          </a:xfrm>
        </p:grpSpPr>
        <p:sp>
          <p:nvSpPr>
            <p:cNvPr id="109" name="Rectangle 20" hidden="1"/>
            <p:cNvSpPr/>
            <p:nvPr/>
          </p:nvSpPr>
          <p:spPr>
            <a:xfrm rot="21540000">
              <a:off x="379800" y="6096960"/>
              <a:ext cx="8305560" cy="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1"/>
            <p:cNvSpPr/>
            <p:nvPr/>
          </p:nvSpPr>
          <p:spPr>
            <a:xfrm rot="21540000">
              <a:off x="379800" y="61682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2"/>
            <p:cNvSpPr/>
            <p:nvPr/>
          </p:nvSpPr>
          <p:spPr>
            <a:xfrm rot="21540000">
              <a:off x="584280" y="616356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3"/>
            <p:cNvSpPr/>
            <p:nvPr/>
          </p:nvSpPr>
          <p:spPr>
            <a:xfrm rot="21540000">
              <a:off x="790920" y="61603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4"/>
            <p:cNvSpPr/>
            <p:nvPr/>
          </p:nvSpPr>
          <p:spPr>
            <a:xfrm rot="21540000">
              <a:off x="995760" y="615708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5"/>
            <p:cNvSpPr/>
            <p:nvPr/>
          </p:nvSpPr>
          <p:spPr>
            <a:xfrm rot="21540000">
              <a:off x="1202040" y="61538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6"/>
            <p:cNvSpPr/>
            <p:nvPr/>
          </p:nvSpPr>
          <p:spPr>
            <a:xfrm rot="21540000">
              <a:off x="1406520" y="61495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7"/>
            <p:cNvSpPr/>
            <p:nvPr/>
          </p:nvSpPr>
          <p:spPr>
            <a:xfrm rot="21540000">
              <a:off x="1611360" y="614628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8"/>
            <p:cNvSpPr/>
            <p:nvPr/>
          </p:nvSpPr>
          <p:spPr>
            <a:xfrm rot="21540000">
              <a:off x="1817640" y="61430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9"/>
            <p:cNvSpPr/>
            <p:nvPr/>
          </p:nvSpPr>
          <p:spPr>
            <a:xfrm rot="21540000">
              <a:off x="2022480" y="61398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0"/>
            <p:cNvSpPr/>
            <p:nvPr/>
          </p:nvSpPr>
          <p:spPr>
            <a:xfrm rot="21540000">
              <a:off x="2229120" y="61351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1"/>
            <p:cNvSpPr/>
            <p:nvPr/>
          </p:nvSpPr>
          <p:spPr>
            <a:xfrm rot="21540000">
              <a:off x="2433600" y="61318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2"/>
            <p:cNvSpPr/>
            <p:nvPr/>
          </p:nvSpPr>
          <p:spPr>
            <a:xfrm rot="21540000">
              <a:off x="2638440" y="612864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3"/>
            <p:cNvSpPr/>
            <p:nvPr/>
          </p:nvSpPr>
          <p:spPr>
            <a:xfrm rot="21540000">
              <a:off x="2845080" y="61254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4"/>
            <p:cNvSpPr/>
            <p:nvPr/>
          </p:nvSpPr>
          <p:spPr>
            <a:xfrm rot="21540000">
              <a:off x="3049920" y="61207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5"/>
            <p:cNvSpPr/>
            <p:nvPr/>
          </p:nvSpPr>
          <p:spPr>
            <a:xfrm rot="21540000">
              <a:off x="3254760" y="611748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6"/>
            <p:cNvSpPr/>
            <p:nvPr/>
          </p:nvSpPr>
          <p:spPr>
            <a:xfrm rot="21540000">
              <a:off x="3461040" y="61146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7"/>
            <p:cNvSpPr/>
            <p:nvPr/>
          </p:nvSpPr>
          <p:spPr>
            <a:xfrm rot="21540000">
              <a:off x="3665880" y="611136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38"/>
            <p:cNvSpPr/>
            <p:nvPr/>
          </p:nvSpPr>
          <p:spPr>
            <a:xfrm rot="21540000">
              <a:off x="3871800" y="61063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9"/>
            <p:cNvSpPr/>
            <p:nvPr/>
          </p:nvSpPr>
          <p:spPr>
            <a:xfrm rot="21540000">
              <a:off x="4076640" y="61034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0"/>
            <p:cNvSpPr/>
            <p:nvPr/>
          </p:nvSpPr>
          <p:spPr>
            <a:xfrm rot="21540000">
              <a:off x="4281480" y="610020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1"/>
            <p:cNvSpPr/>
            <p:nvPr/>
          </p:nvSpPr>
          <p:spPr>
            <a:xfrm rot="21540000">
              <a:off x="4487760" y="609696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2"/>
            <p:cNvSpPr/>
            <p:nvPr/>
          </p:nvSpPr>
          <p:spPr>
            <a:xfrm rot="21540000">
              <a:off x="4691160" y="609192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3"/>
            <p:cNvSpPr/>
            <p:nvPr/>
          </p:nvSpPr>
          <p:spPr>
            <a:xfrm rot="21540000">
              <a:off x="4897440" y="60890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4"/>
            <p:cNvSpPr/>
            <p:nvPr/>
          </p:nvSpPr>
          <p:spPr>
            <a:xfrm rot="21540000">
              <a:off x="5102280" y="60858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5"/>
            <p:cNvSpPr/>
            <p:nvPr/>
          </p:nvSpPr>
          <p:spPr>
            <a:xfrm rot="21540000">
              <a:off x="5307120" y="608112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6"/>
            <p:cNvSpPr/>
            <p:nvPr/>
          </p:nvSpPr>
          <p:spPr>
            <a:xfrm rot="21540000">
              <a:off x="5513760" y="60778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7"/>
            <p:cNvSpPr/>
            <p:nvPr/>
          </p:nvSpPr>
          <p:spPr>
            <a:xfrm rot="21540000">
              <a:off x="5718240" y="607500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48"/>
            <p:cNvSpPr/>
            <p:nvPr/>
          </p:nvSpPr>
          <p:spPr>
            <a:xfrm rot="21540000">
              <a:off x="5924880" y="60714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49"/>
            <p:cNvSpPr/>
            <p:nvPr/>
          </p:nvSpPr>
          <p:spPr>
            <a:xfrm rot="21540000">
              <a:off x="6129360" y="60670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0"/>
            <p:cNvSpPr/>
            <p:nvPr/>
          </p:nvSpPr>
          <p:spPr>
            <a:xfrm rot="21540000">
              <a:off x="6334200" y="606384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1"/>
            <p:cNvSpPr/>
            <p:nvPr/>
          </p:nvSpPr>
          <p:spPr>
            <a:xfrm rot="21540000">
              <a:off x="6540480" y="60606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2"/>
            <p:cNvSpPr/>
            <p:nvPr/>
          </p:nvSpPr>
          <p:spPr>
            <a:xfrm rot="21540000">
              <a:off x="6745320" y="605736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3"/>
            <p:cNvSpPr/>
            <p:nvPr/>
          </p:nvSpPr>
          <p:spPr>
            <a:xfrm rot="21540000">
              <a:off x="6950160" y="605268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4"/>
            <p:cNvSpPr/>
            <p:nvPr/>
          </p:nvSpPr>
          <p:spPr>
            <a:xfrm rot="21540000">
              <a:off x="7156440" y="60494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55"/>
            <p:cNvSpPr/>
            <p:nvPr/>
          </p:nvSpPr>
          <p:spPr>
            <a:xfrm rot="21540000">
              <a:off x="7361280" y="604620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6"/>
            <p:cNvSpPr/>
            <p:nvPr/>
          </p:nvSpPr>
          <p:spPr>
            <a:xfrm rot="21540000">
              <a:off x="7567560" y="604296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7"/>
            <p:cNvSpPr/>
            <p:nvPr/>
          </p:nvSpPr>
          <p:spPr>
            <a:xfrm rot="21540000">
              <a:off x="7772400" y="60382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58"/>
            <p:cNvSpPr/>
            <p:nvPr/>
          </p:nvSpPr>
          <p:spPr>
            <a:xfrm rot="21540000">
              <a:off x="7977240" y="603504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59"/>
            <p:cNvSpPr/>
            <p:nvPr/>
          </p:nvSpPr>
          <p:spPr>
            <a:xfrm rot="21540000">
              <a:off x="8183880" y="60318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0"/>
            <p:cNvSpPr/>
            <p:nvPr/>
          </p:nvSpPr>
          <p:spPr>
            <a:xfrm rot="21540000">
              <a:off x="8388720" y="602856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1"/>
            <p:cNvSpPr/>
            <p:nvPr/>
          </p:nvSpPr>
          <p:spPr>
            <a:xfrm rot="21540000">
              <a:off x="8594640" y="60238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62"/>
          <p:cNvSpPr/>
          <p:nvPr/>
        </p:nvSpPr>
        <p:spPr>
          <a:xfrm>
            <a:off x="8086680" y="19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1.12.2.G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6"/>
          <p:cNvGrpSpPr/>
          <p:nvPr/>
        </p:nvGrpSpPr>
        <p:grpSpPr>
          <a:xfrm>
            <a:off x="457200" y="6248520"/>
            <a:ext cx="8267760" cy="191880"/>
            <a:chOff x="457200" y="6248520"/>
            <a:chExt cx="8267760" cy="191880"/>
          </a:xfrm>
        </p:grpSpPr>
        <p:pic>
          <p:nvPicPr>
            <p:cNvPr id="153" name="Picture 16" descr="UA-horiz blk"/>
            <p:cNvPicPr/>
            <p:nvPr/>
          </p:nvPicPr>
          <p:blipFill>
            <a:blip r:embed="rId3"/>
            <a:stretch/>
          </p:blipFill>
          <p:spPr>
            <a:xfrm>
              <a:off x="457200" y="6248520"/>
              <a:ext cx="814320" cy="1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3" descr="TCA-New-Logo-3-color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7772760" y="6248520"/>
              <a:ext cx="952200" cy="18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2"/>
          </p:nvPr>
        </p:nvSpPr>
        <p:spPr>
          <a:xfrm>
            <a:off x="380880" y="617184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aur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FFC26668-8A1B-4FA7-8D97-1E39E3648E43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694D0DCE-E15A-4FB0-BE2B-D0F4CDCBC21D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The Language of the </a:t>
            </a:r>
            <a:br>
              <a:rPr sz="6000"/>
            </a:b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Stock Market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203" name="Picture 4" descr="BS00558_[1]"/>
          <p:cNvPicPr/>
          <p:nvPr/>
        </p:nvPicPr>
        <p:blipFill>
          <a:blip r:embed="rId1"/>
          <a:stretch/>
        </p:blipFill>
        <p:spPr>
          <a:xfrm>
            <a:off x="7491240" y="2514600"/>
            <a:ext cx="1652760" cy="1463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amily Economics &amp; Financial Education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74473F53-8059-4A65-A9B9-BC98A342EA0F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Growth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Growth stocks are from companies who have a consistent record of relatively rapid growth and earnings in all economic condition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New companies expanding product lin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Usually does not pay dividend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1.5 or higher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xamples include Coca-Cola and Wal-Mar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2E8379CC-BCD3-4AE7-A955-DA672683C2F0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Income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Income stocks pay higher than average dividend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ompany only retains small portion of profit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ompanies with a steady stream of income such as utility compani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less than 1.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11EE918E-BE76-4B6C-9D8B-17AB748792E7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Value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Value stocks are from companies which have a low market price considering historical earning records and value of asset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Viewed as investment bargain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revious examples are Time Warner and IBM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D71D24AF-1FDB-4A91-95E3-A0A5EC6D4DE5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yclical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Cyclical stocks are influenced by changes in the economic business cycle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ompanies which operate in major consumer dependent industries 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Automobiles, housing, airlin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generally 1.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2D7E1694-C0A0-42B0-9EEF-2F28A4A617AB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ountercyclical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Countercyclical stocks are companies which give consistent returns even when the economy is suffering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roducts are always in demand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Good for investors who want dividend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xamples are utility companies and grocery stor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1.0 or below, even negativ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A2D6B260-9916-4AAB-9621-2F2D1E046CC0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Speculative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Speculative stocks are companies with potential for substantial earning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Very high risk stock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xamples include internet and video game compani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2.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CFAB635C-E036-4007-82B7-C8BB64A231D7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Blue-chip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Blue-chip stocks are from nationally recognized companies with long records of profit, dividend payments, and a good reputation for management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Less risky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Grow at a consistent rat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xamples are McDonalds, Wal-Mart and General Electric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753A403B-379F-4EF8-896A-568A5C09FDA3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pperplate Gothic Light"/>
              </a:rPr>
              <a:t>Researching A Stock</a:t>
            </a:r>
            <a:endParaRPr b="1" lang="en-US" sz="5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253" name="Picture 8" descr="j0234354"/>
          <p:cNvPicPr/>
          <p:nvPr/>
        </p:nvPicPr>
        <p:blipFill>
          <a:blip r:embed="rId1"/>
          <a:stretch/>
        </p:blipFill>
        <p:spPr>
          <a:xfrm>
            <a:off x="3352680" y="3657600"/>
            <a:ext cx="243864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627E130C-7D35-43E4-BA55-8CE330FD1FE5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Book Valu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Book value is the net worth of a company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ssets-Liabilities = Book valu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nformation can be found in the company’s annual repor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ndicates what would happen if a company’s assets were sold, debts paid, and proceeds distributed to stockholder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B65D7693-520F-42D0-A1FB-C10944382886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Earnings per Shar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How much income a company has available to pay in dividends and reinvest as retained earnings on a per share basi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aur"/>
              </a:rPr>
              <a:t>         </a:t>
            </a:r>
            <a:r>
              <a:rPr b="1" lang="en-US" sz="2100" spc="-1" strike="noStrike">
                <a:solidFill>
                  <a:srgbClr val="000000"/>
                </a:solidFill>
                <a:latin typeface="Centaur"/>
              </a:rPr>
              <a:t>After tax annual earnings</a:t>
            </a:r>
            <a:endParaRPr b="1" lang="en-US" sz="21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aur"/>
              </a:rPr>
              <a:t>= Earnings per share</a:t>
            </a:r>
            <a:endParaRPr b="1" lang="en-US" sz="21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aur"/>
              </a:rPr>
              <a:t>Total number of shares of common stock</a:t>
            </a:r>
            <a:endParaRPr b="1" lang="en-US" sz="21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formation can be found in the business section of many newspaper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dicates how well a company is doing (the quality of products, customer service, and operations management)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762120" y="3429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3588CF08-B657-4E83-9DDC-4186739F7BC1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Why Learn About Stock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The stock market is the core of America’s economic system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Stock is a share of ownership in the assets and earnings of a company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Bond is a type of debt that a company issues to investors for a specified amount of time.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Stock market is a general term used to describe all transactions involving the buying and selling of stocks and bonds issued by a company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B20A2199-7FE6-435A-BDDD-E973257A30BC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Price/Earnings Ratio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Price/earnings ratio is the relationship between the price of one share of stock and the annual earnings of the company (P/E ratio)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rice per shar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89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=  P/E ratio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arnings per share of stock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formation can be found in a newspaper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Most widely used critical measure of a stock’s price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Represents how much an investor is willing to pay for each dollar of a company’s earning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4" name="Line 4"/>
          <p:cNvSpPr/>
          <p:nvPr/>
        </p:nvSpPr>
        <p:spPr>
          <a:xfrm>
            <a:off x="2590920" y="35812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E46AF13A-3073-4529-BED8-4DE05F09B2AA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P/E Ratio Continued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Most companies have between a 5-25 P/E ratio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7-10 P/E ratios are financially successful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15-25 P/E ratios are rapidly growing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40-50 P/E ratios are speculative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Lower P/E  stocks pay higher dividends and have less risk, lower prices, and slow growth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High P/E ratios indicate the firm is expected to have a lot of growth in the futur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05A4677E-2BFD-4DE9-937A-2B94B9418876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Beta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Beta measures a stocks volatility compared to overall changes in the stock marke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f a stock has a beta of +1.5 and the market went up 10%, the value of the stock is expected to rise 15%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Average beta is between +0.5 - +2.0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formation can be found by doing an internet search for “Stock ticker symbol + beta”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A higher beta indicates more risk because the stock price change will be more drastic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D44797AD-E4F5-461E-8EC0-BC9B60F7637A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Reading Stock Quotes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273" name="Picture 6" descr="j0237169"/>
          <p:cNvPicPr/>
          <p:nvPr/>
        </p:nvPicPr>
        <p:blipFill>
          <a:blip r:embed="rId1"/>
          <a:stretch/>
        </p:blipFill>
        <p:spPr>
          <a:xfrm>
            <a:off x="3048120" y="3505320"/>
            <a:ext cx="32004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239AF84D-DCA3-4878-B393-5D60C3306F1D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Year to Date Percent Chan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04920" y="2192400"/>
          <a:ext cx="8534160" cy="1008000"/>
        </p:xfrm>
        <a:graphic>
          <a:graphicData uri="http://schemas.openxmlformats.org/drawingml/2006/table">
            <a:tbl>
              <a:tblPr/>
              <a:tblGrid>
                <a:gridCol w="838080"/>
                <a:gridCol w="685800"/>
                <a:gridCol w="685800"/>
                <a:gridCol w="762120"/>
                <a:gridCol w="609480"/>
                <a:gridCol w="685800"/>
                <a:gridCol w="685800"/>
                <a:gridCol w="762120"/>
                <a:gridCol w="685800"/>
                <a:gridCol w="609480"/>
                <a:gridCol w="762120"/>
                <a:gridCol w="761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Rectangle 241"/>
          <p:cNvSpPr/>
          <p:nvPr/>
        </p:nvSpPr>
        <p:spPr>
          <a:xfrm>
            <a:off x="457200" y="3200400"/>
            <a:ext cx="8229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Year to date percent change is the stock price percent change from January 1</a:t>
            </a:r>
            <a:r>
              <a:rPr b="1" lang="en-US" sz="3200" spc="-1" strike="noStrike" baseline="30000">
                <a:solidFill>
                  <a:srgbClr val="009999"/>
                </a:solidFill>
                <a:latin typeface="Centaur"/>
              </a:rPr>
              <a:t>st </a:t>
            </a: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of the curren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f a stock was $43.00 on January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entaur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 and $36.00 on July 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entaur"/>
              </a:rPr>
              <a:t>th,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, the percentage change would be -16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CCD18BAE-A73B-4064-BFC2-AC260E47961E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52-Week High Low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1874880"/>
          <a:ext cx="8534160" cy="1325520"/>
        </p:xfrm>
        <a:graphic>
          <a:graphicData uri="http://schemas.openxmlformats.org/drawingml/2006/table">
            <a:tbl>
              <a:tblPr/>
              <a:tblGrid>
                <a:gridCol w="807840"/>
                <a:gridCol w="662040"/>
                <a:gridCol w="739800"/>
                <a:gridCol w="762120"/>
                <a:gridCol w="609480"/>
                <a:gridCol w="685800"/>
                <a:gridCol w="609480"/>
                <a:gridCol w="762120"/>
                <a:gridCol w="685800"/>
                <a:gridCol w="685800"/>
                <a:gridCol w="762120"/>
                <a:gridCol w="7617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Text Box 66"/>
          <p:cNvSpPr/>
          <p:nvPr/>
        </p:nvSpPr>
        <p:spPr>
          <a:xfrm>
            <a:off x="304920" y="34290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52-Week High &amp; Low shows the highest and lowest prices the stock was sold per share during the last 52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2D4E62B2-2E20-45FC-A995-63996DB81196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Stock Nam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57200" y="1874880"/>
          <a:ext cx="8381880" cy="1249200"/>
        </p:xfrm>
        <a:graphic>
          <a:graphicData uri="http://schemas.openxmlformats.org/drawingml/2006/table">
            <a:tbl>
              <a:tblPr/>
              <a:tblGrid>
                <a:gridCol w="779400"/>
                <a:gridCol w="638280"/>
                <a:gridCol w="712800"/>
                <a:gridCol w="735120"/>
                <a:gridCol w="587160"/>
                <a:gridCol w="738360"/>
                <a:gridCol w="609480"/>
                <a:gridCol w="762120"/>
                <a:gridCol w="685800"/>
                <a:gridCol w="609480"/>
                <a:gridCol w="838080"/>
                <a:gridCol w="685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Text Box 57"/>
          <p:cNvSpPr/>
          <p:nvPr/>
        </p:nvSpPr>
        <p:spPr>
          <a:xfrm>
            <a:off x="304920" y="34290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Stock – Each company’s stock is provided with an abbreviated trading symbol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4A734472-85BD-4657-9764-76BC5339DEA0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Dividends per shar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28600" y="1874880"/>
          <a:ext cx="8763120" cy="1173240"/>
        </p:xfrm>
        <a:graphic>
          <a:graphicData uri="http://schemas.openxmlformats.org/drawingml/2006/table">
            <a:tbl>
              <a:tblPr/>
              <a:tblGrid>
                <a:gridCol w="868320"/>
                <a:gridCol w="731880"/>
                <a:gridCol w="725400"/>
                <a:gridCol w="746280"/>
                <a:gridCol w="596880"/>
                <a:gridCol w="752400"/>
                <a:gridCol w="552600"/>
                <a:gridCol w="947520"/>
                <a:gridCol w="709560"/>
                <a:gridCol w="631800"/>
                <a:gridCol w="789120"/>
                <a:gridCol w="71136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56"/>
          <p:cNvSpPr/>
          <p:nvPr/>
        </p:nvSpPr>
        <p:spPr>
          <a:xfrm>
            <a:off x="457200" y="327672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Dividends per share is the total cash paid to common stockholders per share 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Helpful when determining the type of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f a company paid $10,000 in dividends for 30,000 shares, the dividends per share would be $0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C6130EAE-17DD-4A8B-B194-5A9C9C080221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Dividend Yield Percenta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28600" y="1874880"/>
          <a:ext cx="8610480" cy="132552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  <a:gridCol w="685800"/>
                <a:gridCol w="882360"/>
                <a:gridCol w="570240"/>
                <a:gridCol w="718920"/>
                <a:gridCol w="593640"/>
                <a:gridCol w="841680"/>
                <a:gridCol w="812520"/>
                <a:gridCol w="609840"/>
                <a:gridCol w="761760"/>
                <a:gridCol w="6858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Rectangle 59"/>
          <p:cNvSpPr/>
          <p:nvPr/>
        </p:nvSpPr>
        <p:spPr>
          <a:xfrm>
            <a:off x="457200" y="3352680"/>
            <a:ext cx="8229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Dividend yield percentage is the dividend expressed as a percentage of the price of the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If a company paid $1.25 in dividends for a stock with a market price of $50.00, the dividend yield percentage would be 2.5% (1.25/5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Helpful to know how much income to expect.  A company paying high dividends is not reinvesting money to gr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3546F585-384D-40CD-8497-DCB6F79ECD15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Price/Earnings Ratio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52280" y="1752480"/>
          <a:ext cx="8839440" cy="1371600"/>
        </p:xfrm>
        <a:graphic>
          <a:graphicData uri="http://schemas.openxmlformats.org/drawingml/2006/table">
            <a:tbl>
              <a:tblPr/>
              <a:tblGrid>
                <a:gridCol w="762120"/>
                <a:gridCol w="781200"/>
                <a:gridCol w="823680"/>
                <a:gridCol w="757440"/>
                <a:gridCol w="573120"/>
                <a:gridCol w="723600"/>
                <a:gridCol w="598680"/>
                <a:gridCol w="847800"/>
                <a:gridCol w="685800"/>
                <a:gridCol w="749160"/>
                <a:gridCol w="766800"/>
                <a:gridCol w="77004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Rectangle 54"/>
          <p:cNvSpPr/>
          <p:nvPr/>
        </p:nvSpPr>
        <p:spPr>
          <a:xfrm>
            <a:off x="457200" y="30481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Price/earnings ratio is the closing price of the share compared to the annual earnings per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If the stock’s market price is $50.00 and the earnings per share is $2.25, the P/E ratio is 22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For every dollar the company earns, the stock’s market price is worth $22.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A high number indicates people are optimistic about the company and health of the mar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2D72FB5C-0E42-42A0-8CE0-FA81181177A3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Why Companies Issue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When a company would like to grow, it issues stocks to raise funds and pay for ongoing business activitie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It is popular because: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The company does not have to repay the money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aying dividends is optional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062720" indent="-212400">
              <a:spcBef>
                <a:spcPts val="601"/>
              </a:spcBef>
              <a:buClr>
                <a:srgbClr val="009999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entaur"/>
              </a:rPr>
              <a:t>Dividends are distributions of earnings paid to stockholder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1FA2E734-A7DC-4A85-946F-B681A10BB5AD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Volum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280" y="1874880"/>
          <a:ext cx="8839440" cy="132552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  <a:gridCol w="838080"/>
                <a:gridCol w="838440"/>
                <a:gridCol w="685800"/>
                <a:gridCol w="687240"/>
                <a:gridCol w="557280"/>
                <a:gridCol w="790560"/>
                <a:gridCol w="762120"/>
                <a:gridCol w="707760"/>
                <a:gridCol w="838440"/>
                <a:gridCol w="68580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Rectangle 68"/>
          <p:cNvSpPr/>
          <p:nvPr/>
        </p:nvSpPr>
        <p:spPr>
          <a:xfrm>
            <a:off x="457200" y="335268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Vol 100’s is the number of transactions to the share on the reported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aur"/>
              </a:rPr>
              <a:t>Represented in hundreds (take the number and add two zer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499C24ED-EDF9-4CE5-9678-01CBA8179D5E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High and Low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1874880"/>
          <a:ext cx="8610480" cy="1401840"/>
        </p:xfrm>
        <a:graphic>
          <a:graphicData uri="http://schemas.openxmlformats.org/drawingml/2006/table">
            <a:tbl>
              <a:tblPr/>
              <a:tblGrid>
                <a:gridCol w="861840"/>
                <a:gridCol w="638280"/>
                <a:gridCol w="780840"/>
                <a:gridCol w="779760"/>
                <a:gridCol w="637920"/>
                <a:gridCol w="641520"/>
                <a:gridCol w="612720"/>
                <a:gridCol w="762120"/>
                <a:gridCol w="761760"/>
                <a:gridCol w="609840"/>
                <a:gridCol w="761760"/>
                <a:gridCol w="76212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Rectangle 55"/>
          <p:cNvSpPr/>
          <p:nvPr/>
        </p:nvSpPr>
        <p:spPr>
          <a:xfrm>
            <a:off x="457200" y="335268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High and low entries represent the high and low selling price of one share for the previou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B0166C24-942A-4440-A0E6-30F4CE92CD5B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los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80880" y="1874880"/>
          <a:ext cx="8458200" cy="1554120"/>
        </p:xfrm>
        <a:graphic>
          <a:graphicData uri="http://schemas.openxmlformats.org/drawingml/2006/table">
            <a:tbl>
              <a:tblPr/>
              <a:tblGrid>
                <a:gridCol w="824040"/>
                <a:gridCol w="609480"/>
                <a:gridCol w="746280"/>
                <a:gridCol w="745920"/>
                <a:gridCol w="609840"/>
                <a:gridCol w="731880"/>
                <a:gridCol w="609480"/>
                <a:gridCol w="762120"/>
                <a:gridCol w="685800"/>
                <a:gridCol w="685800"/>
                <a:gridCol w="761760"/>
                <a:gridCol w="68580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Rectangle 59"/>
          <p:cNvSpPr/>
          <p:nvPr/>
        </p:nvSpPr>
        <p:spPr>
          <a:xfrm>
            <a:off x="457200" y="35812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Close is the price of the last share sold for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6971F027-78C2-4485-996B-C4DD8B09FC62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Net Chan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874880"/>
          <a:ext cx="8381880" cy="1630440"/>
        </p:xfrm>
        <a:graphic>
          <a:graphicData uri="http://schemas.openxmlformats.org/drawingml/2006/table">
            <a:tbl>
              <a:tblPr/>
              <a:tblGrid>
                <a:gridCol w="801720"/>
                <a:gridCol w="593640"/>
                <a:gridCol w="725400"/>
                <a:gridCol w="725760"/>
                <a:gridCol w="593640"/>
                <a:gridCol w="711000"/>
                <a:gridCol w="594000"/>
                <a:gridCol w="893520"/>
                <a:gridCol w="685800"/>
                <a:gridCol w="609840"/>
                <a:gridCol w="761760"/>
                <a:gridCol w="68580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55"/>
          <p:cNvSpPr/>
          <p:nvPr/>
        </p:nvSpPr>
        <p:spPr>
          <a:xfrm>
            <a:off x="457200" y="35812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Net change is the difference between the closing price of the share from the prior day and the curren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DCC76DD9-86B4-47A1-A9E1-04CDEE3495E1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pperplate Gothic Light"/>
              </a:rPr>
              <a:t>How Well the Stock Market is Doing Overall</a:t>
            </a:r>
            <a:endParaRPr b="1" lang="en-US" sz="5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316" name="Picture 6" descr="j0237770"/>
          <p:cNvPicPr/>
          <p:nvPr/>
        </p:nvPicPr>
        <p:blipFill>
          <a:blip r:embed="rId1"/>
          <a:stretch/>
        </p:blipFill>
        <p:spPr>
          <a:xfrm>
            <a:off x="3657600" y="4114800"/>
            <a:ext cx="19461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3BE81349-8C27-4D47-B75A-6AFFB9B888A8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3 Basic Indicator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Dow Jones Industrial Average (“DOW”)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Lists the 30 leading industrial blue chip stock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Standard and Poor’s 500 Composite Index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Covers market activity for 500 stock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More accurate than DOW because it evaluates a greater variety of stock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National Association of Security Dealers Automated Quotations (“NASDAQ”)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Monitors fast moving technology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Speculative stocks, show dramatic ups and down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CFEC81F2-6D6D-480B-993E-9172C3FB75CC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Ups and Down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The term bull market means the market is doing well because investors are optimistic about the economy and are purchasing stock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The term bear market means the market is doing poorly and investors are not purchasing stocks or selling stocks already owned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FD6BF441-BD21-4BBC-9B91-01EBD1A7F88D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Purchasing Stock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325" name="Picture 7" descr="j0250522"/>
          <p:cNvPicPr/>
          <p:nvPr/>
        </p:nvPicPr>
        <p:blipFill>
          <a:blip r:embed="rId1"/>
          <a:stretch/>
        </p:blipFill>
        <p:spPr>
          <a:xfrm>
            <a:off x="3657600" y="3505320"/>
            <a:ext cx="1730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AA52B169-CB91-4B67-BFAC-F484ED49292C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Broker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A Broker is a person who is licensed to buy and sell stocks, provide investment advice, and collect a commission on each purchase or sale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urchases stocks on an organized exchange (stock market)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Over ¾ of all stocks are bought and sold on an organized exchang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4C66B460-3FD5-4AF9-9548-D0AE22BC376A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Organized Exchange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Minimum requirements for a stock to ensure only reputable companies are used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Each exchange has a limited number of seats available which brokerage firms  purchase to give them the legal right to buy and sell stocks on the exchange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FD54AF5B-10D7-4725-B138-CFE5D1302D46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Risk vs. Return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On average, stocks have a high rate of return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46200" indent="-248400"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The increase or decrease in the original purchase price of an investmen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Higher rate of return = greater risk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46200" indent="-248400"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Uncertainty about the outcome of an investmen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tocks provide portfolio diversification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46200" indent="-248400"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Money invested in a variety of investment tool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3CE51E4F-3EC5-46C1-BF44-24C841B33B38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New York Stock Exchan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New York Stock Exchange (NYSE)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Oldest and largest, began in 1792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1,366 seats availabl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2,800 compani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verage stock price is $33.0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Strict requirement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5F632386-ADC8-4785-B622-51A5C3F7AAF5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American Stock Exchan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American Stock Exchange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gan in 1849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entaur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 largest exchang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t’s requirements are not as strict as NYSE allowing younger, smaller companies to lis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verage stock price is $24.0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0D3E205E-7171-45C7-A661-FF4D6C830D28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Regional Stock Exchange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Regional Stock Exchange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Stocks are traded to investors living in a specific geographical area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cluding Boston, Cincinnati, Philadelphia, Spokane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6D7E151E-8AF7-4215-A40E-533E3F012B8D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NASDAQ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National Association of Securities Dealers Automated Quotation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Stocks are traded in an over the counter electronic marke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4,000 small compani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Company requirements are not as strict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More volatile because companies are young and new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verage stock price is $11.0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72A2FE2B-28D4-4DAC-91D2-FF305D6EB2EF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Supply vs. Demand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The stock exchange is organized based upon the laws of supply and demand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Supply is the relationship of prices to the quantities of a good or service sellers are willing to offer for sale at any given point in tim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Demand is the relationship of prices to the quantities and the corresponding quantities of a good or service buyers are willing to purchase at any given point in time.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3FEB6510-C8F8-4956-9658-DDF7A9FBFF73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2 Basic Types of Stock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ommon Stock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Vs. 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Preferred Stock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64B3D389-036E-4960-A210-C1D08D483CF3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ommon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Common stock – shares or units of ownership in a public corporation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Most basic form of ownership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One vote per share owned to determine company’s board of director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Ways the stock value can chang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The dollar value increases or decreas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entaur"/>
              </a:rPr>
              <a:t>Stock split</a:t>
            </a: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 occurs – shares owned by existing stockholders are divided into a larger number of shar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A merger of two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Dividends are paid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AA623315-3D1A-40FE-B87B-A76250C0A361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Preferred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Preferred stock – shares which pay fixed dividends and have priority over common stock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Less risk than common stock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No voting right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Dividends are stated as a percentage known as the </a:t>
            </a: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par valu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entaur"/>
              </a:rPr>
              <a:t>Fixed value stated on the stock certificate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4B9AFD8A-A80D-45A3-844D-0D838712DBCC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Stock Classifications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226" name="Picture 7" descr="BS00512_[1]"/>
          <p:cNvPicPr/>
          <p:nvPr/>
        </p:nvPicPr>
        <p:blipFill>
          <a:blip r:embed="rId1"/>
          <a:stretch/>
        </p:blipFill>
        <p:spPr>
          <a:xfrm>
            <a:off x="2666880" y="3886200"/>
            <a:ext cx="38102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5293FA87-15B6-4807-9EE9-87114D3E0C35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Stock Classification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A variety of type of stocks are necessary for a diversified portfolio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ven basic classification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Growth, Income, Value, Cyclical, Countercyclical, Speculative, Blue Chip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ome stocks can be classified into more than one category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17:33:39Z</dcterms:created>
  <dc:creator>nchinadle</dc:creator>
  <dc:description/>
  <dc:language>en-US</dc:language>
  <cp:lastModifiedBy>TCAI</cp:lastModifiedBy>
  <dcterms:modified xsi:type="dcterms:W3CDTF">2010-04-30T20:56:29Z</dcterms:modified>
  <cp:revision>35</cp:revision>
  <dc:subject/>
  <dc:title>Slide 1</dc:title>
</cp:coreProperties>
</file>